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CFAE-CA7C-4C24-AEF3-0BDD67DE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5407-CBB4-4F2B-9899-90022350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D508-0765-4A93-B3B9-6AA14118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A0AF-AB4E-43EC-88DD-226FA3746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EF2C-5F7F-44C0-B5C0-575AB2D5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8D61-08A8-4918-8853-438FCA49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AE5F-CBAA-4ACA-BCCE-9BF3E798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4D55-BFD0-4AAB-B6C4-24B7D834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F1BF-8796-4C9D-94EC-B56633ED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7FB6-B4F1-407A-AD9E-E9DAC7C2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41D8-F2B3-4795-87D4-F3EBD83A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1101-D5F4-4322-997F-16668CB1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1CAA-379A-4E78-84D1-71C27071DD0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001C-271D-4706-B2EC-6E87ED7A8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3.xml"/><Relationship Id="rId12" Type="http://schemas.openxmlformats.org/officeDocument/2006/relationships/slide" Target="slide13.xml"/><Relationship Id="rId13" Type="http://schemas.openxmlformats.org/officeDocument/2006/relationships/slide" Target="slide13.xml"/><Relationship Id="rId14" Type="http://schemas.openxmlformats.org/officeDocument/2006/relationships/slide" Target="slide14.xml"/><Relationship Id="rId15" Type="http://schemas.openxmlformats.org/officeDocument/2006/relationships/slide" Target="slide14.xml"/><Relationship Id="rId16" Type="http://schemas.openxmlformats.org/officeDocument/2006/relationships/slide" Target="slide14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5.xml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hi.baidu.com/lxqsw/album/item/cb7da0f8ad035919d9f9fdfb.html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20080705181102872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6" descr=""/>
          <p:cNvPicPr/>
          <p:nvPr/>
        </p:nvPicPr>
        <p:blipFill>
          <a:blip r:embed="rId2"/>
          <a:stretch/>
        </p:blipFill>
        <p:spPr>
          <a:xfrm>
            <a:off x="1390680" y="1182600"/>
            <a:ext cx="61437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-357120" y="571680"/>
            <a:ext cx="8713800" cy="57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21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分到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30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31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分到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40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分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41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分到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50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51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分到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60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61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分以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928800" y="1214280"/>
            <a:ext cx="6429240" cy="29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21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分到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30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分：缺乏信心的挑剔者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你勤勉、刻苦、挑剔，是一个谨慎小心的人。如果你做任何冲动的事或无准备的事，朋友们都会大吃一惊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857160" y="500040"/>
            <a:ext cx="7858080" cy="29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31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分到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40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分：以牙还牙的自我保护者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你是一个明智、谨慎、注重实效的人，也是一个伶俐、有天赋、有才干且谦虚的人。你不容易很快和人成为朋友，却是一个对朋友非常忠诚的人，同时要求朋友对你也忠诚。要动摇你对朋友的信任很难，同样，一旦这种信任被破坏，也就很难恢复。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2"/>
          <p:cNvSpPr/>
          <p:nvPr/>
        </p:nvSpPr>
        <p:spPr>
          <a:xfrm>
            <a:off x="857160" y="785880"/>
            <a:ext cx="7358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41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分到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50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分：平衡的中道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你是一个有活力、有魅力、讲究实际，而且永远有趣的人。你经常是群众注意力的焦点，但你是一</a:t>
            </a: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够平衡的人，不至于因此而昏了头。你亲切、和蔼、体贴、宽容，是一个永远会使人高兴、乐于助人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785880" y="1214280"/>
            <a:ext cx="7358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51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分到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60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分：吸引人的冒险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你是一个令人兴奋、活泼、易冲动的人，是一个天生的领袖，能够迅速做了决定，虽然你的决定不总是对的。你是一个愿意尝试机会、欣赏冒险的人，周围人喜欢跟你在一起。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8cb19ddd757bd62e5982dd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468360" y="476280"/>
            <a:ext cx="8675640" cy="33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60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分以上：傲慢的孤独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是自负的自我中心主义者，是个有极端支配欲、统治欲的人。别人可能钦佩你，但不会永远相信你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5"/>
          <p:cNvSpPr txBox="1"/>
          <p:nvPr/>
        </p:nvSpPr>
        <p:spPr>
          <a:xfrm>
            <a:off x="1619280" y="4365720"/>
            <a:ext cx="7315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虽然怎么样的性格决定怎么样的命运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9" name="WordArt 6"/>
          <p:cNvSpPr txBox="1"/>
          <p:nvPr/>
        </p:nvSpPr>
        <p:spPr>
          <a:xfrm>
            <a:off x="285840" y="5214960"/>
            <a:ext cx="4714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但是性格是可以改变的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cover dir="l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5ad22bc4b6c81eb08326ac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WordArt 4"/>
          <p:cNvSpPr txBox="1"/>
          <p:nvPr/>
        </p:nvSpPr>
        <p:spPr>
          <a:xfrm>
            <a:off x="395280" y="404640"/>
            <a:ext cx="57675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良好性格打造成功人际关系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539640" y="1628640"/>
            <a:ext cx="770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切莫清高孤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会赞美他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算来算去算自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    与人交往保持适度的弹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        吃亏是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            见什么样的人，说什么样的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                难得糊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                    内方外圆的处世之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                        逆耳忠言与美丽谎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                           像士兵一样服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                              喜怒不形于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                                  保全他人的面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d4a94dfb8f67410d6c22eb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WordArt 4" descr=""/>
          <p:cNvPicPr/>
          <p:nvPr/>
        </p:nvPicPr>
        <p:blipFill>
          <a:blip r:embed="rId2"/>
          <a:stretch/>
        </p:blipFill>
        <p:spPr>
          <a:xfrm>
            <a:off x="3554280" y="463680"/>
            <a:ext cx="5345280" cy="6886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539640" y="1289160"/>
            <a:ext cx="8353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cc"/>
                </a:solidFill>
                <a:latin typeface="Arial"/>
              </a:rPr>
              <a:t>自信</a:t>
            </a:r>
            <a:r>
              <a:rPr b="1" lang="zh-CN" sz="2400" spc="-1" strike="noStrike">
                <a:solidFill>
                  <a:srgbClr val="33ccff"/>
                </a:solidFill>
                <a:latin typeface="Arial"/>
              </a:rPr>
              <a:t>是开启人生成功之门的金钥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ff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ff66cc"/>
                </a:solidFill>
                <a:latin typeface="Arial"/>
              </a:rPr>
              <a:t>乐观</a:t>
            </a:r>
            <a:r>
              <a:rPr b="1" lang="zh-CN" sz="2400" spc="-1" strike="noStrike">
                <a:solidFill>
                  <a:srgbClr val="33ccff"/>
                </a:solidFill>
                <a:latin typeface="Arial"/>
              </a:rPr>
              <a:t>的性格让你笑对人生风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ff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ff66cc"/>
                </a:solidFill>
                <a:latin typeface="Arial"/>
              </a:rPr>
              <a:t>宽容</a:t>
            </a:r>
            <a:r>
              <a:rPr b="1" lang="zh-CN" sz="2400" spc="-1" strike="noStrike">
                <a:solidFill>
                  <a:srgbClr val="33ccff"/>
                </a:solidFill>
                <a:latin typeface="Arial"/>
              </a:rPr>
              <a:t>的性格是滋补心灵的鸡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ff"/>
                </a:solidFill>
                <a:latin typeface="Arial"/>
              </a:rPr>
              <a:t>　　    </a:t>
            </a:r>
            <a:r>
              <a:rPr b="1" lang="zh-CN" sz="2400" spc="-1" strike="noStrike">
                <a:solidFill>
                  <a:srgbClr val="ff66cc"/>
                </a:solidFill>
                <a:latin typeface="Arial"/>
              </a:rPr>
              <a:t>谦逊</a:t>
            </a:r>
            <a:r>
              <a:rPr b="1" lang="zh-CN" sz="2400" spc="-1" strike="noStrike">
                <a:solidFill>
                  <a:srgbClr val="33ccff"/>
                </a:solidFill>
                <a:latin typeface="Arial"/>
              </a:rPr>
              <a:t>的空杯才能盛更多的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ff"/>
                </a:solidFill>
                <a:latin typeface="Arial"/>
              </a:rPr>
              <a:t>　　        </a:t>
            </a:r>
            <a:r>
              <a:rPr b="1" lang="zh-CN" sz="2400" spc="-1" strike="noStrike">
                <a:solidFill>
                  <a:srgbClr val="ff66cc"/>
                </a:solidFill>
                <a:latin typeface="Arial"/>
              </a:rPr>
              <a:t>诚信</a:t>
            </a:r>
            <a:r>
              <a:rPr b="1" lang="zh-CN" sz="2400" spc="-1" strike="noStrike">
                <a:solidFill>
                  <a:srgbClr val="33ccff"/>
                </a:solidFill>
                <a:latin typeface="Arial"/>
              </a:rPr>
              <a:t>为成功打造金字招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ff"/>
                </a:solidFill>
                <a:latin typeface="Arial"/>
              </a:rPr>
              <a:t>　　            </a:t>
            </a:r>
            <a:r>
              <a:rPr b="1" lang="zh-CN" sz="2400" spc="-1" strike="noStrike">
                <a:solidFill>
                  <a:srgbClr val="ff66cc"/>
                </a:solidFill>
                <a:latin typeface="Arial"/>
              </a:rPr>
              <a:t>坚忍</a:t>
            </a:r>
            <a:r>
              <a:rPr b="1" lang="zh-CN" sz="2400" spc="-1" strike="noStrike">
                <a:solidFill>
                  <a:srgbClr val="33ccff"/>
                </a:solidFill>
                <a:latin typeface="Arial"/>
              </a:rPr>
              <a:t>的人才能站得比别人更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ff"/>
                </a:solidFill>
                <a:latin typeface="Arial"/>
              </a:rPr>
              <a:t>　　                </a:t>
            </a:r>
            <a:r>
              <a:rPr b="1" lang="zh-CN" sz="2400" spc="-1" strike="noStrike">
                <a:solidFill>
                  <a:srgbClr val="ff66cc"/>
                </a:solidFill>
                <a:latin typeface="Arial"/>
              </a:rPr>
              <a:t>勇敢</a:t>
            </a:r>
            <a:r>
              <a:rPr b="1" lang="zh-CN" sz="2400" spc="-1" strike="noStrike">
                <a:solidFill>
                  <a:srgbClr val="33ccff"/>
                </a:solidFill>
                <a:latin typeface="Arial"/>
              </a:rPr>
              <a:t>为你的成功之路铺开康庄大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ff"/>
                </a:solidFill>
                <a:latin typeface="Arial"/>
              </a:rPr>
              <a:t>　　                    </a:t>
            </a:r>
            <a:r>
              <a:rPr b="1" lang="zh-CN" sz="2400" spc="-1" strike="noStrike">
                <a:solidFill>
                  <a:srgbClr val="ff66cc"/>
                </a:solidFill>
                <a:latin typeface="Arial"/>
              </a:rPr>
              <a:t>理智</a:t>
            </a:r>
            <a:r>
              <a:rPr b="1" lang="zh-CN" sz="2400" spc="-1" strike="noStrike">
                <a:solidFill>
                  <a:srgbClr val="33ccff"/>
                </a:solidFill>
                <a:latin typeface="Arial"/>
              </a:rPr>
              <a:t>是导向成功的指南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ff"/>
                </a:solidFill>
                <a:latin typeface="Arial"/>
              </a:rPr>
              <a:t>　　                        </a:t>
            </a:r>
            <a:r>
              <a:rPr b="1" lang="zh-CN" sz="2400" spc="-1" strike="noStrike">
                <a:solidFill>
                  <a:srgbClr val="ff66cc"/>
                </a:solidFill>
                <a:latin typeface="Arial"/>
              </a:rPr>
              <a:t>果断</a:t>
            </a:r>
            <a:r>
              <a:rPr b="1" lang="zh-CN" sz="2400" spc="-1" strike="noStrike">
                <a:solidFill>
                  <a:srgbClr val="33ccff"/>
                </a:solidFill>
                <a:latin typeface="Arial"/>
              </a:rPr>
              <a:t>是解决问题的关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ff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ff66cc"/>
                </a:solidFill>
                <a:latin typeface="Arial"/>
              </a:rPr>
              <a:t>　                           自制</a:t>
            </a:r>
            <a:r>
              <a:rPr b="1" lang="zh-CN" sz="2400" spc="-1" strike="noStrike">
                <a:solidFill>
                  <a:srgbClr val="33ccff"/>
                </a:solidFill>
                <a:latin typeface="Arial"/>
              </a:rPr>
              <a:t>是你的人生走向成功的保险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ff"/>
                </a:solidFill>
                <a:latin typeface="Arial"/>
              </a:rPr>
              <a:t>　　             </a:t>
            </a:r>
            <a:r>
              <a:rPr b="1" lang="zh-CN" sz="2400" spc="-1" strike="noStrike">
                <a:solidFill>
                  <a:srgbClr val="ff66cc"/>
                </a:solidFill>
                <a:latin typeface="Arial"/>
              </a:rPr>
              <a:t>热忱</a:t>
            </a:r>
            <a:r>
              <a:rPr b="1" lang="zh-CN" sz="2400" spc="-1" strike="noStrike">
                <a:solidFill>
                  <a:srgbClr val="33ccff"/>
                </a:solidFill>
                <a:latin typeface="Arial"/>
              </a:rPr>
              <a:t>是点燃你生命力的火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ff"/>
                </a:solidFill>
                <a:latin typeface="Arial"/>
              </a:rPr>
              <a:t>　　         </a:t>
            </a:r>
            <a:r>
              <a:rPr b="1" lang="zh-CN" sz="2400" spc="-1" strike="noStrike">
                <a:solidFill>
                  <a:srgbClr val="ff66cc"/>
                </a:solidFill>
                <a:latin typeface="Arial"/>
              </a:rPr>
              <a:t>独立</a:t>
            </a:r>
            <a:r>
              <a:rPr b="1" lang="zh-CN" sz="2400" spc="-1" strike="noStrike">
                <a:solidFill>
                  <a:srgbClr val="33ccff"/>
                </a:solidFill>
                <a:latin typeface="Arial"/>
              </a:rPr>
              <a:t>的性格撑起人生的天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进取</a:t>
            </a:r>
            <a:r>
              <a:rPr b="1" lang="zh-CN" sz="2400" spc="-1" strike="noStrike">
                <a:solidFill>
                  <a:srgbClr val="33ccff"/>
                </a:solidFill>
                <a:latin typeface="Arial"/>
              </a:rPr>
              <a:t>让你从一个阶梯到更高的阶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ff"/>
                </a:solidFill>
                <a:latin typeface="Arial"/>
              </a:rPr>
              <a:t>　　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谨慎</a:t>
            </a:r>
            <a:r>
              <a:rPr b="1" lang="zh-CN" sz="2400" spc="-1" strike="noStrike">
                <a:solidFill>
                  <a:srgbClr val="33ccff"/>
                </a:solidFill>
                <a:latin typeface="Arial"/>
              </a:rPr>
              <a:t>是人生避风的港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ff"/>
                </a:solidFill>
                <a:latin typeface="Arial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稳重</a:t>
            </a:r>
            <a:r>
              <a:rPr b="1" lang="zh-CN" sz="2400" spc="-1" strike="noStrike">
                <a:solidFill>
                  <a:srgbClr val="33ccff"/>
                </a:solidFill>
                <a:latin typeface="Arial"/>
              </a:rPr>
              <a:t>是一种成熟的象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ed10ae1fe9fc0fd2a78669d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WordArt 4" descr=""/>
          <p:cNvPicPr/>
          <p:nvPr/>
        </p:nvPicPr>
        <p:blipFill>
          <a:blip r:embed="rId2"/>
          <a:stretch/>
        </p:blipFill>
        <p:spPr>
          <a:xfrm>
            <a:off x="3481560" y="5078520"/>
            <a:ext cx="5059080" cy="1328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179280" y="189000"/>
            <a:ext cx="828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别让</a:t>
            </a:r>
            <a:r>
              <a:rPr b="1" lang="zh-CN" sz="2400" spc="-1" strike="noStrike">
                <a:solidFill>
                  <a:srgbClr val="ff66cc"/>
                </a:solidFill>
                <a:latin typeface="Arial"/>
              </a:rPr>
              <a:t>狭隘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禁锢你的心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远离让你永远也站不起来的</a:t>
            </a:r>
            <a:r>
              <a:rPr b="1" lang="zh-CN" sz="2400" spc="-1" strike="noStrike">
                <a:solidFill>
                  <a:srgbClr val="ff66cc"/>
                </a:solidFill>
                <a:latin typeface="Arial"/>
              </a:rPr>
              <a:t>自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ff66cc"/>
                </a:solidFill>
                <a:latin typeface="Arial"/>
              </a:rPr>
              <a:t>懒惰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是成功路上的挡路虎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    </a:t>
            </a:r>
            <a:r>
              <a:rPr b="1" lang="zh-CN" sz="2400" spc="-1" strike="noStrike">
                <a:solidFill>
                  <a:srgbClr val="ff66cc"/>
                </a:solidFill>
                <a:latin typeface="Arial"/>
              </a:rPr>
              <a:t>悲观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是人生最黑暗的深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        别让</a:t>
            </a:r>
            <a:r>
              <a:rPr b="1" lang="zh-CN" sz="2400" spc="-1" strike="noStrike">
                <a:solidFill>
                  <a:srgbClr val="ff66cc"/>
                </a:solidFill>
                <a:latin typeface="Arial"/>
              </a:rPr>
              <a:t>自负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提前注定了你的失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           </a:t>
            </a:r>
            <a:r>
              <a:rPr b="1" lang="zh-CN" sz="2400" spc="-1" strike="noStrike">
                <a:solidFill>
                  <a:srgbClr val="ff66cc"/>
                </a:solidFill>
                <a:latin typeface="Arial"/>
              </a:rPr>
              <a:t>多疑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是躲在人性背后的阴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               </a:t>
            </a:r>
            <a:r>
              <a:rPr b="1" lang="zh-CN" sz="2400" spc="-1" strike="noStrike">
                <a:solidFill>
                  <a:srgbClr val="ff66cc"/>
                </a:solidFill>
                <a:latin typeface="Arial"/>
              </a:rPr>
              <a:t>依赖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只能把你变为别人的附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                   别再重演</a:t>
            </a:r>
            <a:r>
              <a:rPr b="1" lang="zh-CN" sz="2400" spc="-1" strike="noStrike">
                <a:solidFill>
                  <a:srgbClr val="ff66cc"/>
                </a:solidFill>
                <a:latin typeface="Arial"/>
              </a:rPr>
              <a:t>叛逆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的悲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                       </a:t>
            </a:r>
            <a:r>
              <a:rPr b="1" lang="zh-CN" sz="2400" spc="-1" strike="noStrike">
                <a:solidFill>
                  <a:srgbClr val="ff66cc"/>
                </a:solidFill>
                <a:latin typeface="Arial"/>
              </a:rPr>
              <a:t>贪婪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是你永远无法填满的无底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         </a:t>
            </a:r>
            <a:r>
              <a:rPr b="1" lang="zh-CN" sz="2400" spc="-1" strike="noStrike">
                <a:solidFill>
                  <a:srgbClr val="ff66cc"/>
                </a:solidFill>
                <a:latin typeface="Arial"/>
              </a:rPr>
              <a:t>自私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的人没有朋友的同时也丢失了自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             走出</a:t>
            </a:r>
            <a:r>
              <a:rPr b="1" lang="zh-CN" sz="2400" spc="-1" strike="noStrike">
                <a:solidFill>
                  <a:srgbClr val="ff66cc"/>
                </a:solidFill>
                <a:latin typeface="Arial"/>
              </a:rPr>
              <a:t>自闭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的牢笼，寻求真正的自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            </a:t>
            </a:r>
            <a:r>
              <a:rPr b="1" lang="zh-CN" sz="2400" spc="-1" strike="noStrike">
                <a:solidFill>
                  <a:srgbClr val="ff66cc"/>
                </a:solidFill>
                <a:latin typeface="Arial"/>
              </a:rPr>
              <a:t>暴躁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的性格是发生不幸的导火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                                         </a:t>
            </a:r>
            <a:r>
              <a:rPr b="1" lang="zh-CN" sz="2400" spc="-1" strike="noStrike">
                <a:solidFill>
                  <a:srgbClr val="ff66cc"/>
                </a:solidFill>
                <a:latin typeface="Arial"/>
              </a:rPr>
              <a:t>冲动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是魔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                          </a:t>
            </a:r>
            <a:r>
              <a:rPr b="1" lang="zh-CN" sz="2400" spc="-1" strike="noStrike">
                <a:solidFill>
                  <a:srgbClr val="ff66cc"/>
                </a:solidFill>
                <a:latin typeface="Arial"/>
              </a:rPr>
              <a:t>抑郁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是灵魂在疼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        </a:t>
            </a:r>
            <a:r>
              <a:rPr b="1" lang="zh-CN" sz="2400" spc="-1" strike="noStrike">
                <a:solidFill>
                  <a:srgbClr val="ff66cc"/>
                </a:solidFill>
                <a:latin typeface="Arial"/>
              </a:rPr>
              <a:t>偏执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的结果只会是此路不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dbce1a38cd965cebb311c7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WordArt 4" descr=""/>
          <p:cNvPicPr/>
          <p:nvPr/>
        </p:nvPicPr>
        <p:blipFill>
          <a:blip r:embed="rId2"/>
          <a:stretch/>
        </p:blipFill>
        <p:spPr>
          <a:xfrm>
            <a:off x="1384200" y="2914560"/>
            <a:ext cx="5967360" cy="8398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971640" y="26028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自我充实，不断进取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培养学习型性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　　三思后行，灵光乍现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培养善思型性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　　改变命运，不靠他人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培养独立型性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　　勇往直前，敢于冒险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培养冒险型性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　　心胸坦荡，豪爽率真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培养豪爽型性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　　风摧不垮，雨打不折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培养坚韧型性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619280" y="3860640"/>
            <a:ext cx="62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刚强气质，强者风范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培养刚毅型性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把握时机，雷厉风行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培养行动型性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左右逢源，人脉畅通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培养社交型性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心平气和，宠辱不惊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培养沉静型性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以柔克刚，威力无穷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培养温顺型性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积极乐观，快乐无忧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培养快乐型性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20080705181121426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4" name="WordArt 6"/>
          <p:cNvSpPr txBox="1"/>
          <p:nvPr/>
        </p:nvSpPr>
        <p:spPr>
          <a:xfrm>
            <a:off x="4071960" y="428760"/>
            <a:ext cx="4721040" cy="11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好性格成就你的一生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坏性格毁掉你的一生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5" name="WordArt 7" descr=""/>
          <p:cNvPicPr/>
          <p:nvPr/>
        </p:nvPicPr>
        <p:blipFill>
          <a:blip r:embed="rId2"/>
          <a:stretch/>
        </p:blipFill>
        <p:spPr>
          <a:xfrm>
            <a:off x="2719440" y="3986280"/>
            <a:ext cx="5387760" cy="1622520"/>
          </a:xfrm>
          <a:prstGeom prst="rect">
            <a:avLst/>
          </a:prstGeom>
          <a:ln w="0">
            <a:noFill/>
          </a:ln>
        </p:spPr>
      </p:pic>
      <p:pic>
        <p:nvPicPr>
          <p:cNvPr id="46" name="WordArt 8" descr=""/>
          <p:cNvPicPr/>
          <p:nvPr/>
        </p:nvPicPr>
        <p:blipFill>
          <a:blip r:embed="rId3"/>
          <a:stretch/>
        </p:blipFill>
        <p:spPr>
          <a:xfrm>
            <a:off x="1676520" y="2200320"/>
            <a:ext cx="3236760" cy="787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f792592414f34b174d088d4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179280" y="1341360"/>
            <a:ext cx="896472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博大性格：兼并包容的意境</a:t>
            </a:r>
            <a:br>
              <a:rPr sz="2800"/>
            </a:b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    顽强性格：在逆境中崛起</a:t>
            </a:r>
            <a:br>
              <a:rPr sz="2800"/>
            </a:b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      自信性格：发动成功的引擎</a:t>
            </a:r>
            <a:br>
              <a:rPr sz="2800"/>
            </a:b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         勇敢性格：无所畏惧地挺进</a:t>
            </a:r>
            <a:br>
              <a:rPr sz="2800"/>
            </a:b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            诚信性格：生来一诺比千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谦虚性格：虚怀若谷的境界</a:t>
            </a:r>
            <a:br>
              <a:rPr sz="2800"/>
            </a:b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                乐观性格：笑览众山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刚毅性格：不屈的动力</a:t>
            </a:r>
            <a:br>
              <a:rPr sz="2800"/>
            </a:b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                      精细性格：赢在细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116000" y="333360"/>
            <a:ext cx="6858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良好的性格是人生一笔巨大的财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r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2857c6c9b89c18007f3e6fb4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395280" y="1273320"/>
            <a:ext cx="5327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狭隘性格：中了恶魔的诅咒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刚愎性格：众叛亲离终败北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自负性格：膨胀出来的败局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多疑性格：聪明反被聪明误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孤僻性格：一把关闭心灵的锈锁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贪婪性格：永远填不满的欲望之沟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叛逆性格：引火焚身的悲剧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自私性格：一己之利终不成大事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懦弱性格：畏缩在阴暗的角落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WordArt 7" descr=""/>
          <p:cNvPicPr/>
          <p:nvPr/>
        </p:nvPicPr>
        <p:blipFill>
          <a:blip r:embed="rId2"/>
          <a:stretch/>
        </p:blipFill>
        <p:spPr>
          <a:xfrm>
            <a:off x="384120" y="969840"/>
            <a:ext cx="2346480" cy="7858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afe1177327dfe2098701b04a"/>
          <p:cNvPicPr/>
          <p:nvPr/>
        </p:nvPicPr>
        <p:blipFill>
          <a:blip r:embed="rId1"/>
          <a:stretch/>
        </p:blipFill>
        <p:spPr>
          <a:xfrm>
            <a:off x="19080" y="14400"/>
            <a:ext cx="9124920" cy="6843600"/>
          </a:xfrm>
          <a:prstGeom prst="rect">
            <a:avLst/>
          </a:prstGeom>
          <a:ln w="0">
            <a:noFill/>
          </a:ln>
        </p:spPr>
      </p:pic>
      <p:sp>
        <p:nvSpPr>
          <p:cNvPr id="54" name="WordArt 4"/>
          <p:cNvSpPr txBox="1"/>
          <p:nvPr/>
        </p:nvSpPr>
        <p:spPr>
          <a:xfrm>
            <a:off x="250920" y="260280"/>
            <a:ext cx="3916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为什么要认识自己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24000" y="1052640"/>
            <a:ext cx="784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法国作家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吉罗杜说过：从我们的幼年开始，每个人身上就编织了一件无形的外衣。它渗透于我们吃饭、走路以及待人接物的方式之中。这件外衣就是我们的性格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甜蜜的爱情、美满的婚姻、幸福的家庭、亲密的朋友、信赖的知己、飞黄腾达的事业、辉煌的成就、别人的仰慕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一切我们每个人都想拥有，没有人希望自己在人生的路上遭遇失败。</a:t>
            </a:r>
            <a:r>
              <a:rPr b="1" lang="zh-CN" sz="2000" spc="-1" strike="noStrike">
                <a:solidFill>
                  <a:srgbClr val="d60093"/>
                </a:solidFill>
                <a:latin typeface="Arial"/>
              </a:rPr>
              <a:t>成功除了离不开机遇与自己的拼搏外，首先要做和必须要做的，不是战胜外在，而是战胜自己，不是了解别人，而是了解自己</a:t>
            </a:r>
            <a:r>
              <a:rPr b="1" lang="en-US" sz="2000" spc="-1" strike="noStrike">
                <a:solidFill>
                  <a:srgbClr val="d60093"/>
                </a:solidFill>
                <a:latin typeface="Arial"/>
              </a:rPr>
              <a:t>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优良的性格可以发扬，有缺陷的性格可以克服。</a:t>
            </a:r>
            <a:r>
              <a:rPr b="1" lang="zh-CN" sz="2000" spc="-1" strike="noStrike">
                <a:solidFill>
                  <a:srgbClr val="d60093"/>
                </a:solidFill>
                <a:latin typeface="Arial"/>
              </a:rPr>
              <a:t>歌德说过：“人人都有惊人的潜力，要相信自己的力量与青春，要不断地告诉自己，万事全依赖自己。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谚语有云：“</a:t>
            </a:r>
            <a:r>
              <a:rPr b="1" lang="zh-CN" sz="2000" spc="-1" strike="noStrike">
                <a:solidFill>
                  <a:srgbClr val="d60093"/>
                </a:solidFill>
                <a:latin typeface="Arial"/>
              </a:rPr>
              <a:t>播种行为，收获习惯；播种习惯，收获性格；播种性格，收获命运。”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正确地认识自己的性格，找出性格中的长处和缺陷；长处要保持，缺陷应克服。只有这样，我们才能在生活和工作的各个方面获得成功。每个人生来就与众不同，</a:t>
            </a:r>
            <a:r>
              <a:rPr b="1" lang="zh-CN" sz="2000" spc="-1" strike="noStrike">
                <a:solidFill>
                  <a:srgbClr val="d60093"/>
                </a:solidFill>
                <a:latin typeface="Arial"/>
              </a:rPr>
              <a:t>世界上只有一个自己，绝对不会有第二个人和自己一模一样。每个人的性格各不相同，但没有谁是绝对的性格优越，也没有谁是绝对的一无是处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QQ截图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7" name="WordArt 4"/>
          <p:cNvSpPr txBox="1"/>
          <p:nvPr/>
        </p:nvSpPr>
        <p:spPr>
          <a:xfrm>
            <a:off x="755640" y="620640"/>
            <a:ext cx="4276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影响性格四大因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571680" y="2000160"/>
            <a:ext cx="7053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遗传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与生俱来的性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家庭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为性格打上最初的烙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教育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重塑你的性格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环境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——“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时势造英雄”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cb7da0f8ad035919d9f9fdf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WordArt 6"/>
          <p:cNvSpPr txBox="1"/>
          <p:nvPr/>
        </p:nvSpPr>
        <p:spPr>
          <a:xfrm>
            <a:off x="250920" y="260280"/>
            <a:ext cx="2665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菲尔测试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179280" y="1125360"/>
            <a:ext cx="849636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你何时感觉最好？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早晨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下午及傍晚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夜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你走路时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步地快走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步地快走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快，仰着头面对着世界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快，低着头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很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和人说话时，你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……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手臂交叠站着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双手紧握着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只手或两手放在臀部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碰着或推着与你说话的人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玩着你的耳朵、摸着你的下巴或用手整理头发 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坐着休息时，你的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…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两膝盖并拢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两腿交叉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两腿伸直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腿蜷在身下 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碰到你感到发笑的事时，你的反应是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…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欣赏的大笑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笑着，但不大声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轻声地咯咯地笑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羞怯的微笑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0" descr="129f81eef86fde312cf534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539640" y="449280"/>
            <a:ext cx="7201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当你去一个派对或社交场合时，你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……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很大声地入场以引起注意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静地入场，找你认识的人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非常安静地入场，尽量保持不被注意 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当你非常专心工作时，有人打断你，你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…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欢迎他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到非常恼怒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上述两极端之间 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下列颜色中，你最喜欢哪一种颜色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红或橘色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黑色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黄色或浅蓝色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绿色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深蓝色或紫色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白色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棕色或灰色 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临入睡的前几分钟，你在床上的姿势是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……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仰躺，伸直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俯躺，伸直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侧躺，微蜷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头睡在一手臂上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被子盖过头 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你经常梦到自己在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…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落下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打架或挣扎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找东西或人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飞或漂浮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平常不做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的梦都是愉快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179280" y="0"/>
            <a:ext cx="8064720" cy="67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经过上述十项测试后，再将所有分数相加：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 2      B  4     C  6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 6      B  4     C  7    D  2     E  1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 4      B  2     C  5    D  7     E  6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 4      B  6     C  2    D  1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 6      B  4     C  3    D  5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 6      B  4     C  2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 6      B  2     C  4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 6      B  7     C  5    D  4    E  3     F  2     G  1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 7      B  6     C  4    D  2    E  1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 4    B  2     C  3    D  5    E  6     F  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04:40:2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9:47:48Z</dcterms:modified>
  <cp:revision>17</cp:revision>
  <dc:subject>主题班会课件(分28大类): http://shop62905894.taobao.com</dc:subject>
  <dc:title>主题班会课件(分28大类): http://shop62905894.taobao.com</dc:title>
</cp:coreProperties>
</file>